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1800" y="936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936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8088A6-1FF0-40C1-B029-55590D8C070A}" type="datetime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-1800" y="93092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3885840" y="93092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6882B3-4891-4725-9025-9A064592A42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914400" y="465732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of using som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S = spot rate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forward rate - 1 year (£/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£r = UK interest rate - decimal.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$r = US interest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Invest £A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A.(1 + £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Invest in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urn = (A.S)  (1 + $r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$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ing the two riskless retur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£r-$r)/(1+£r) = (F-S)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 = S(1+£r)/(1+$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interest rates are constant F and S move together over time this is useful in hedging using forwards/f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ldImg"/>
          </p:nvPr>
        </p:nvSpPr>
        <p:spPr>
          <a:xfrm>
            <a:off x="1149480" y="853920"/>
            <a:ext cx="4559040" cy="3419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461E-2E91-4AE0-AC99-AAB0FAA92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889020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60" y="4012200"/>
            <a:ext cx="889020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09C7-8014-43C7-B9B2-EC33A7ADF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60" y="401220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6960" y="401220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6840-02C0-4987-91E8-08A6A649A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07160" y="106668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2800" y="106668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60" y="401220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07160" y="401220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2800" y="4012200"/>
            <a:ext cx="2862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A990-15ED-4CEE-A290-274F32BB3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60" y="1066680"/>
            <a:ext cx="88902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480E-249D-4996-8CC3-B02CE7899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88902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8E15-000B-4CFD-9273-70C012C7D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372B-7DF4-4894-AFAC-12402DC54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417C-B6BE-46BC-805F-7FCC110CE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813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D1F7-EF53-4370-ACD8-28E661151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60" y="401220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A7FC-5967-4B34-88AB-BB1C94E61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6960" y="401220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D25B-02FD-4E30-9018-B52BEADBF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960" y="1066680"/>
            <a:ext cx="433836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60" y="4012200"/>
            <a:ext cx="889020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BDA3-0BA4-4908-BD5B-E9C9DDC1B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5995FB-3A8A-4F30-BCBB-72E5ED0B4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8813880" cy="736560"/>
          </a:xfrm>
          <a:prstGeom prst="rect">
            <a:avLst/>
          </a:prstGeom>
          <a:solidFill>
            <a:srgbClr val="000066"/>
          </a:solidFill>
          <a:ln w="50760">
            <a:solidFill>
              <a:srgbClr val="00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01160" y="1066680"/>
            <a:ext cx="8890200" cy="5639040"/>
          </a:xfrm>
          <a:prstGeom prst="rect">
            <a:avLst/>
          </a:prstGeom>
          <a:solidFill>
            <a:srgbClr val="000066"/>
          </a:solidFill>
          <a:ln w="5076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5530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pyright K. Cuthbertson, D.Nitzs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3659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ctur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REX Market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1/9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9C1A-B70B-4338-9C57-140A39D9FA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914040" y="152280"/>
            <a:ext cx="57150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OF PA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990720"/>
            <a:ext cx="7962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 Account (‘Goods And Service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 export receipts minus import 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Accoun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inward investment into domestic assets (=receipts) minus outward investment (=pay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vestment’ can be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portfolio investment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(into bank account or shares) - ‘speculativ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or can be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direct investment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(e.g. foreigner buys the Dorches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Note:  If the UK government could legally print USD there would be no balance of payments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BB27-52AD-4CB0-A395-BC3267D8DD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028880" y="1904760"/>
            <a:ext cx="76579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9000"/>
          </a:bodyPr>
          <a:p>
            <a:pPr marL="99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chasing Power Parity PP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9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9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ce Competitive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66760" y="990720"/>
            <a:ext cx="868680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1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1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5830-A682-4603-A3C6-42D5D8B2B4B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114120"/>
            <a:ext cx="65340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P: “Law of One Price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147320"/>
            <a:ext cx="7925040" cy="54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t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H= Harrod’s Ham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= Sak’s Ham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po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$P(SH) = $200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£P(HH) = £100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 = 2 $ per 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n to a UK resident the price of SH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terl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same as H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K is ‘price competitive’ and there is no incentive to switch purchases of goods between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‘special situation’ is know as purchasing power parity P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5780-BA9B-4964-AA00-72F54F3A50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14480"/>
            <a:ext cx="676260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ing Power Parity (PPP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92504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 of One 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if PPP holds at all times th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prices’ = $200/£100 =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must equal the current exchange rate, S  (=2$/£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 algebraically PPP can be expr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P / £P  =  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prices’ is often referred to as ‘the PPP exchange rat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8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9907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668F-6B1C-46E3-A4C4-B85EB2D926E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43920"/>
            <a:ext cx="807732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S ($/£)= ______ and Relative Pri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lative prices = ‘PPP-Exchange Rate’=   ----- 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1160" y="1066680"/>
            <a:ext cx="88902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990720" y="915840"/>
          <a:ext cx="8151840" cy="571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5840"/>
                    <a:ext cx="8151840" cy="57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9907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CCF3-481F-4D1A-A7A4-697D5A7D2D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33360" y="196560"/>
            <a:ext cx="647676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gure 16.3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German Mark - Pound Sterlin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ctual and PPP Exchange Rat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990720" y="1523880"/>
          <a:ext cx="8001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8001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5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6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9" name=""/>
          <p:cNvSpPr/>
          <p:nvPr/>
        </p:nvSpPr>
        <p:spPr>
          <a:xfrm>
            <a:off x="990720" y="12952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1244-7FFA-4B60-B3DC-66EC2DC850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603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gure 16.4: French Franc - German Mark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ctual and PPP Exchange Rat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143000" y="914400"/>
          <a:ext cx="8001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9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9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7CE4-553F-4890-94B7-22EFA99DEB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914400" y="343080"/>
            <a:ext cx="784872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tion Of £ Improves UK Competi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1752480"/>
            <a:ext cx="7886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P(HH) = £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P(SH) = $200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= 2 $/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LING DEPRECIATION TO  S=1.8 $/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HH to US resident is now $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SH to UK resident is now £1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3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3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80D8-486F-4092-8A07-13008FE287F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1485720" y="2781360"/>
            <a:ext cx="74293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xed Exchange Rat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6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7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5723-8831-4073-B027-ADDA02E1364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876240" y="266760"/>
            <a:ext cx="74296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XED EXCHANGE RATE POLICY: UK INF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66680" y="1447920"/>
            <a:ext cx="7886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H rises in price to £P(HH) = £11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=2$/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nce SH is cheaper for UK resident at £100  (ie, $20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K residents sell £ (and buy USD).  Government uses FX-reserves to supply USD at 2 $/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X-reserves are falling - borrow from IM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ll have to reduce UK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OLICY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 fixed FX-rate your price level (inflation) is determined by the foreign pr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0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0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3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1060-74DF-4720-883C-0A0447128C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93440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vestments:Spot and Derivative Market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Cuthbertson and D.Nitzs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HAPTER 1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excluding p. 454-457, p461-477, Section 15.7 and Appendix 15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HAPTER 16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s 16.1 and 16.2 and Box 16.2 and 16.3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990720" y="6094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6553080"/>
            <a:ext cx="792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9960" y="0"/>
            <a:ext cx="7518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AE22-217A-46FC-844B-09D01FB7B8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837720" y="190440"/>
            <a:ext cx="758196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XED EXCHANGE RATE POLICY: UK INF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66680" y="990720"/>
            <a:ext cx="788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ON CAPITAL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duce UK inflation you can raise interest rates (tight monetary poli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’ CAPITAL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raise UK interest rates, have massive capital inflow (if fixed rate is credible policy) which will put upward pressure on sterl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ce cannot have an independent interest rate policy - reducing inflation will need fiscal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3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24B8-915B-41AE-9992-AFF4101F91B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914400" y="190440"/>
            <a:ext cx="7277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XED EXCHANGE RATE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66680" y="1219320"/>
            <a:ext cx="7886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Bretton Woods 1945-19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USD as “anchor currenc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IMF - payments imbalances/d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Gold at $35 per oz. (Fort Kno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USD = world’s trading currency(Seignio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Oil Crisis 1973 and 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 Rounded MT Bold"/>
              </a:rPr>
              <a:t>Inflation rates differ = “stra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7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7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2258-4FB5-4762-9630-E801AF39E49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914040" y="114120"/>
            <a:ext cx="7658280" cy="4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IXED EXCHANGE RATES :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685800"/>
            <a:ext cx="7886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duces price uncertainty for exporters/impo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have to accept the inflation rate of the ‘larger’ country.  Cannot have an independently chosen inflation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you have higher ‘core’ inflation than larger country you will have to have contractionary fiscal policy (and unemploy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‘free’ capital flows your interest rate must equal that of the larg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need to borrow foreign exchange - if you then devalue this is costl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1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1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1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9E35-0BE2-40F2-B01E-4C193C0644D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1142640" y="23619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ating Exchange 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371600" y="914400"/>
            <a:ext cx="70484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4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4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C9A8-14E9-46D6-B719-C93982AACF8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914400" y="190440"/>
            <a:ext cx="74296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LOATING EXCHANGE RATES : UK INF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14400" y="990720"/>
            <a:ext cx="7886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P= £110  and S currently at $2 per 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 is cheaper than HH and demand for USD increases and USD appreciates (and sterling depreci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tion of £ implies an improvement in UK competitiveness to offset the higher £-price of 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Policy Result (ignoring capital 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lation countries have a depreciating exchange rate (which offsets some or all of loss of competitiveness due to high inflation)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8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8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3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7B00-1ED3-41B0-A23B-8E4E80F21D1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952560" y="266760"/>
            <a:ext cx="7657920" cy="41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FLOATING EXCHANGE RATES : UK INF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1143000"/>
            <a:ext cx="7886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S falls to exactly 1.818181 $/£ the SH would also cost £110 for a UK resident and price competitiveness is re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UT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xactly restore price competitiveness requires the specific exchange rate of 1.8181 and decisions by ‘rational’ FX-speculators might not result in this exact rate - see overshooting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LSO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raise your interest rate to try and reduce inf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capital inflow will tend to raise sterling FX rate which will put downward pressure on UK inflation (as export sector becomes less competi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1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2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9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B62B-FAE6-4A27-8900-7C4F8F85BEC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876240" y="152280"/>
            <a:ext cx="7886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LOATING EXCHANGE RATES :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14400" y="1600200"/>
            <a:ext cx="7962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X-rate is free to move (under market forces) and (ignoring capital flows) will tend to restor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rice competi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have 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dependent interest rate polic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hence influence your own inflation rate over the longer term (3-5 years)  and your unemployment rate over the short term (1-3 ye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r interest rate policy has implications for the exchange rate - although difficult to pred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nger is that FX-speculators will cause ‘wild’ movements in FX-rate and adversely alter price competitivenes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ce uncertainty’ removed by using the forward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5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5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054B-2C95-47E3-A42E-5F2F5426E32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218960" y="2590920"/>
            <a:ext cx="7391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covered Interest Parity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change Rate Overshooting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9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9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1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5897-7CDE-4A98-9C47-211E04B58B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372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vered Interest Arbitrage (Parity) (UIP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‘Smart’ , ‘rational’ Speculator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UIP is a specific (equilibrium) relationship between domestic and foreign interest rates and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xpected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 depreciation of a currency whereby </a:t>
            </a:r>
            <a:r>
              <a:rPr b="0" lang="en-GB" sz="2200" spc="-1" strike="noStrike" u="sng">
                <a:solidFill>
                  <a:srgbClr val="fafd00"/>
                </a:solidFill>
                <a:uFillTx/>
                <a:latin typeface="Arial"/>
              </a:rPr>
              <a:t>speculators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 have </a:t>
            </a:r>
            <a:r>
              <a:rPr b="0" lang="en-GB" sz="2200" spc="-1" strike="noStrike" u="sng">
                <a:solidFill>
                  <a:srgbClr val="fafd00"/>
                </a:solidFill>
                <a:uFillTx/>
                <a:latin typeface="Arial"/>
              </a:rPr>
              <a:t>no incentive to switch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  their funds between different coun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We assume that speculators (as a whole) are only concerned about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xpected return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 on their investments (ie. They are “</a:t>
            </a:r>
            <a:r>
              <a:rPr b="0" lang="en-GB" sz="2200" spc="-1" strike="noStrike" u="sng">
                <a:solidFill>
                  <a:srgbClr val="fafd00"/>
                </a:solidFill>
                <a:uFillTx/>
                <a:latin typeface="Arial"/>
              </a:rPr>
              <a:t>risk neutral</a:t>
            </a:r>
            <a:r>
              <a:rPr b="0" lang="en-GB" sz="2200" spc="-1" strike="noStrike">
                <a:solidFill>
                  <a:srgbClr val="fafd00"/>
                </a:solidFill>
                <a:latin typeface="Arial"/>
              </a:rPr>
              <a:t>”).  They know their ‘bets’ are risky but this does not influence their decis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 Expected (or forecast of the )spot rate in 1 years time = “ES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2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"/>
          <p:cNvSpPr/>
          <p:nvPr/>
        </p:nvSpPr>
        <p:spPr>
          <a:xfrm>
            <a:off x="9907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ECB6-AAD4-40BF-9A45-5A1B8ADE72B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238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covered Interest Arbitrage (Parity) (UIP)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Arial"/>
              </a:rPr>
              <a:t>WHAT GIVES BEST EXPECTED PAYOUT (IN USD) FOR US RESI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1) r(UK) = r(US) = 2%,  and       Current S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Arial"/>
              </a:rPr>
              <a:t>t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 = 1 $/£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ecast,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r>
              <a:rPr b="0" lang="en-GB" sz="2200" spc="-1" strike="noStrike" u="sng" baseline="-25000">
                <a:solidFill>
                  <a:srgbClr val="ffffff"/>
                </a:solidFill>
                <a:uFillTx/>
                <a:latin typeface="Arial"/>
              </a:rPr>
              <a:t>t+1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 = 0.5 $ per £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(ie. expected depreciation of sterl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US speculator: $100 of funds from US to UK or vice-versa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) r(UK) = 3%,  r(US) = 2%, (ie. interest differential of 1%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urrent S = 1 $/£,       Forecast,   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r>
              <a:rPr b="0" lang="en-GB" sz="2200" spc="-1" strike="noStrike" u="sng" baseline="-25000">
                <a:solidFill>
                  <a:srgbClr val="ffffff"/>
                </a:solidFill>
                <a:uFillTx/>
                <a:latin typeface="Arial"/>
              </a:rPr>
              <a:t>t+1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 = 0.99029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$/£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.e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 Expect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preciation of sterling of  about 1%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6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6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3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7D45-C0EA-4B84-963A-E87128CDA22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s: Spot, Forward and Balance of Pay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P -Price Competi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d Exchange Rate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ating Exchange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vered Interest Parity/ Exchange Rate Overshoo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Union -EMU: Polic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1404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71A8-ED38-47DC-BE2D-C570CC299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448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covered Interest Arbitrage (Parity) (UIP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rt Speculato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IP =. ‘no switching of funds by speculator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is will occur whe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ected (%) depreciation of ster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 Interest differential in favour of the UK= (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r(UK) = 3% p.a.  r(US) = 2%, (ie. interest differential of 1%) then ‘no switching of funds’ when speculators think that sterling will depreciate by 1% over the coming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9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0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9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03AB-B8B2-48BC-B4C5-0575FB6EA1A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5247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covered Interest Arbitrage (Parity) (UIP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rt Speculato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ume UIP is correct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 UK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ready h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‘high’ interest rates this implies that speculator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xp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terling to depreci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ver the coming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 that the above says nothing about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rrent lev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exchange rate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The current level of the exchange r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r may not) be ‘high’ , but all CIP implies is that whatever the value of S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now, speculators believe it will f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 the futur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3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5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A022-D8A7-4B50-817D-F5ABA0B2E17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LICY IMPLICATIONS OF  UIP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RATE OVERSHOOT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rt: UIP hold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%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ected depn £ = 0% (ie you expect spot rate to remain constant over coming yea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implications for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rrent spot ra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xpected  rise in UK interest rates by 2% by the MP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If speculators 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initially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believe that sterling will remain constant then US investors will want to buy UK bonds and hence they buy spot £ ,  pushing up the sterling Ex-Rat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7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7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1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7E7B-F4C7-48B2-AE71-E3BF05DBBDE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IMPLICATIONS OF  UI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RATE OVERSHOOT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How high will 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todays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spot rate ris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Sterling will appreciate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 today 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until it gets so high that US investors </a:t>
            </a:r>
            <a:r>
              <a:rPr b="0" i="1" lang="en-GB" sz="2400" spc="-1" strike="noStrike">
                <a:solidFill>
                  <a:srgbClr val="fafd00"/>
                </a:solidFill>
                <a:latin typeface="Arial"/>
              </a:rPr>
              <a:t>think it will fall by 2%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ver the coming year</a:t>
            </a: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.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Now UIP is restored and capital inflows into the UK will ce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0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0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99072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AF03-F5D0-4E77-B856-1F74677BE97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594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ing UIP: Exchange rate Overshooting 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crease in UK interest rates = ‘T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ght’ Monetary Polic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523880" y="2209680"/>
            <a:ext cx="0" cy="4038840"/>
          </a:xfrm>
          <a:prstGeom prst="line">
            <a:avLst/>
          </a:prstGeom>
          <a:ln w="25560">
            <a:solidFill>
              <a:srgbClr val="fafd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4952880"/>
            <a:ext cx="670572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124080" y="4952880"/>
            <a:ext cx="0" cy="228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705720" y="5029200"/>
            <a:ext cx="0" cy="228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95280" y="2590920"/>
            <a:ext cx="2286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95280" y="3886200"/>
            <a:ext cx="2286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838080" y="236232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62120" y="36576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23880" y="3886200"/>
            <a:ext cx="167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320040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2590920"/>
            <a:ext cx="3429000" cy="761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29400" y="33526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819520" y="259092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590920" y="388620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1752480"/>
            <a:ext cx="487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depreciation of 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971800" y="525780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543800" y="518148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295280" y="3352680"/>
            <a:ext cx="2286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2120" y="32004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477120" y="2971800"/>
            <a:ext cx="53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3352680" y="2057400"/>
            <a:ext cx="6098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23880" y="3352680"/>
            <a:ext cx="5029200" cy="0"/>
          </a:xfrm>
          <a:prstGeom prst="line">
            <a:avLst/>
          </a:prstGeom>
          <a:ln w="1260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81480" y="2666880"/>
            <a:ext cx="327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38080" y="1295280"/>
            <a:ext cx="2057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eci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terling, $ per 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248520" y="3581280"/>
            <a:ext cx="3276360" cy="118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= Final ‘long run’ level for Exchange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48520" y="525780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1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6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6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8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DB98-C747-4D5E-B263-3FC3B2E765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90720" y="114120"/>
            <a:ext cx="7372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vershooting:   UIP+’STICKY’ PRI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942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ppreciation of sterl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overshooting of the exchange rate leads to an immediat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loss of UK competitivenes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 Exports fall (and imports increase), which further exacerbates th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recessio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itially caused by the rise in interest r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recession may last for 2-5 years -severe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can also be exacerbated if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“the he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” (e.g. chartists) follow the “rational speculators” and buy spot sterling when it begins to rise, thus pushing sterling up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even furth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longer term the economy may return to its ‘normal’ growth path and interest rates in the two countries may be again be equalised (this is a “big”, involved and complex sto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0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0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4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9AA1-F165-4926-80D7-611FE11CF5F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523520" y="3238200"/>
            <a:ext cx="699156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rrency Unions - EMU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licy Iss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219320" y="1181160"/>
            <a:ext cx="670536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3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4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0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21932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1103-1E43-4634-AE09-A7FB6CA272B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69480"/>
            <a:ext cx="698472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CY UNION:“Single currency”:EMU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34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a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rrevocab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ixed exchange rate reg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independent interest rate policy (ECB, Frankfu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t accept the inflation rate of other member states (OR UNEMPLOYMENT IF HIGH INF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ces are ‘transparent’  and ‘uncertainty’ removed 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thin Euroland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lected MPC in Threadneedle St or in Frankfurt 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6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21932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9886-E7DF-4E1C-B497-A217083089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69480"/>
            <a:ext cx="62229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ngle currency”:EMU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9628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(‘size’)   interest rate fits all ? (In EM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ymmetric country ‘shock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mployment increases (equally) in all states.  ECB lowers interest rates - ‘no problem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Asymmetric “shock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mployment in Scotland, a boom in Germany.  ECB keeps interest rates hig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olu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ll in (real) wages in Scotland and work comes to the worker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ots migrate to 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fare expenditure in UK in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1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2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21932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8198-43E7-47B0-9F43-A36E70C0C6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14040" y="69480"/>
            <a:ext cx="637524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ngle currency”:EMU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budget defic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elfare pa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ension commitments of the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financed by issuing say Italian government bonds, denominated in E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ault and bail-ou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deficit limited to 3% (on average) of GDP - otherwise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932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B115-6CCE-435E-883C-231CF32684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sic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0385-9EA7-4D78-BCEA-6D642AE88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744192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OF LECTURE / SLID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8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8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4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CF01-CFEA-4BB9-97BB-20E8D634987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96920"/>
            <a:ext cx="72136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ot Rates: Terminolgy  and SWIFT cod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IFT’ Cod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‘TELEPHON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rling - 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BP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b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nch Franc-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FRF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utsche Mark-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M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llar-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iss Franc-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CHF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is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en-$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PY/US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ll and 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  e.g. Dollar - Ster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sterling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ppreciate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n the USD must hav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epreciate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  Appreciation of sterling from  2.0 $ per £ to 2.1 $ per 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B98C-81F0-4736-B2FC-BFB018DD672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 FX-mark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s in Lond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(“screens” \ telephone \ back offic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pot settled in 2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sine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participants (50 large banks-”own book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10-12 FOREX bro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spreads, commission, trading pro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Commodities Clearing House (ICCH) - transfer of f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40AE-E9EF-442F-A7D2-A0B3230825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16256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 Mark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91880" y="1066680"/>
            <a:ext cx="744228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act made today for delivery in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ward rate is “price” agreed,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One -year Forward rate = 1.5 $ / 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gree to purchase £100 ‘s 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1-year, receive £1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pay-out          $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6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8015-0155-4EE1-91BF-0019AF4377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7569360" cy="10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 Calculates Outright Forward Quo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58360" y="1066680"/>
            <a:ext cx="88902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(quote)    =   S    [ ( 1 +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  /  ( 1 +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) 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vered interest parity (C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Also No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and 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k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relatively constant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 and S will move together (positive corre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0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0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8D56-4D94-4E23-B61D-DF890C289F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63626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Rate Reg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990720"/>
            <a:ext cx="79628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ixed Exchange Rates (Crawling P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in practice, these are ‘narrow band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ure Float (eg. USD-Yen, USD-Eu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sometimes Central Bank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ommon Currency (EMU), Mexico-U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rrency Board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- form of fixed exchange rate where domestic currency is altered one-for-one with FX-reserves - ie. net FX receipts (Hong-Kong, Latvia, Agent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3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3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99072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66294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525680" y="1384200"/>
          <a:ext cx="60973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384200"/>
                    <a:ext cx="60973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A882-0CA6-479F-BD06-CEB71E5E2F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1T10:27:32Z</dcterms:created>
  <dc:creator>Dept. of Economics</dc:creator>
  <dc:description/>
  <dc:language>en-US</dc:language>
  <cp:lastModifiedBy>Keith Cuthbertson</cp:lastModifiedBy>
  <cp:lastPrinted>2001-09-26T17:39:00Z</cp:lastPrinted>
  <dcterms:modified xsi:type="dcterms:W3CDTF">2001-10-03T17:48:57Z</dcterms:modified>
  <cp:revision>87</cp:revision>
  <dc:subject/>
  <dc:title>CONSEQUENCES OF MM</dc:title>
</cp:coreProperties>
</file>